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071-42A7-4C3D-8D1C-2B88D0D3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195-4AAA-4E0D-A91F-970A0978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CAE-16C2-475C-8BBF-E516A7DE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D44-E11C-4509-BE04-991A8D7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0E9-5DF2-4CBA-AC17-CC58A56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F11-E769-4FB9-845F-B8A4690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FD6-B913-4861-9CFF-781DFDC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536-9164-479E-8A06-FF92887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3C4-FAC3-4372-A2DB-6425662C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56E-3AE4-4B44-B3A9-825CE62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E46-CF9C-4684-879B-1A5E1C5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873-49BF-4BF4-8B73-D4A4D34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125-CA9F-42B7-9A97-4D9720376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élja és történ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1337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 külön csapat tervezte, építette, programozta, kezelte és tartotta kar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talmasak voltak, termeket töltötte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ákuumcsövekkel működ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ogramozása kizárólag gépi nyelven foly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cs operációs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. 1500 szorzásra vagy 15000 összeadásra voltak képe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llemző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ásodik generáció (1955-65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zisztorok, kötegelt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zisztorok megjelen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égkondicionált termekben tárol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átori csapat – a gép kiszolgálása és a program futtatása a feladat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ozási nyelv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dományos és mérnöki számításokra használ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lyam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gramozó papíron megírta a program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ártyákra lyukasztot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zelő átveszi (beviteli ter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tta a géppel a program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dítót beolvastat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omta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redményt visszavitte a programozónak (kiviteli ter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ötegelt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Összegyűjtöttek egy kötegre való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ágnesszalagra olvastatt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épterembe vitte a keze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ndított egy speciális programot (ez volt a mai op.rsz.-ek elődje) – egyszerű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 az első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redményt a sornyomtató helyett egy másik szalagra í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olvasta a következő felada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első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MS (Fortran monitor sy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BSYS (az IBM operációs rendsz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harmadik generáció (1965-80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ált áramkörö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ét fejlődési irány vette kezdeté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ószervezésű, nagy, tudományos számítógép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akterszervezésű, kis, perifériás szg. (bankok és biztosítók használtá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y család „ öt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BM – System/361 számítógépcsalá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különböző méretű (memória, gyorsaság, perifériák, ár, teljesítmény) de egymással kompatíbilis gépekből ál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tegrált áramköröket alkalmazt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a az a követelmény volt, hogy minden szoftver (op.rsz. is!) minden modellen működőképes leg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yen operációs rendszert nem lehet ír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.: OS/360 (Fred Broo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ltiprogramo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PU üresjárati idejének csökkentésére szolgál. Amíg egy feladat a B/K teljesítésére vár, egy másik képes a CPU használat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tétele a megfelelő hard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jelennek a gyors és véletlen hozzáférésű mágneslemez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oling technika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ultaneous Peripheral Operation On L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armadik generációs gépek azon képessége, hogy  ezeket a tárakat, mint egy hatalmas puffert használja és egyszerre nem csak egy, hanem több feladatot is lemezre tölt 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áttértár technik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ndszerprogram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elyek a számítógép saját működését szervezik. Ezek közül a legalapvetőbb az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operációs rendszer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lhasználói program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elyek a felhasználó saját kívánságának megfelelő feladatot hajtják vég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őosztáso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ultiprogramozott rendszereknek egy olyan variációja, ahol minden felhasználónak külön beviteli eszköze van, melyen keresztül on-line módon adhat parancsokat és kaphat a rendszertől válasz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zg. nagyszámú felhasználót képes gyorsan, interaktívan kiszolgálni, miközben esetleg nagy kötegelt feladatokon is dolgozik a hátté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első időosztásos rendszer: CTSS  (M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S – „számítógépszolgáltató” fejlesz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IT, Bell Labs, General Elect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gép, ami egyidejűleg több száz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őosztásos felhasználót szolgál 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Unix (Ken Thomps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negyedik generáció (1980-napjainki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SI (Large Scale Integration, magas integráltságú) áramkörök megjelen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ökkent a számítógépes hardverek költ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talánossá vált az egy felhasználó – egy gép struktú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zemélyi számítógé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sonal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lhasználóbarát program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észletek rejtve marad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nyelmes programozási felü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gyedik generációs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-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(DOS fele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’9x, NT, 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álózati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lhasználók számára több gép áll rendelkezésre, bejelentkezhetnek távoli gépek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ényegében nem különböznek az egyprocesszoros operációs rendszerektő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osztott 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öbb processzoros rendszerek esetében használatos, bár a felhasználó felé csak egynek tű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pjaiban más felépítést, más algoritmusokat igény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ós idejű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okat a rendszereket, amelyekkel szemben környezeti, a valós időskálához kötött idő-követelményeket támasztunk, valósidejű rendszereknek nevezzü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jtái: - kemény valósidejű rsz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lágy valósidejű rs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ndszermodell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z operációs rendszer és környez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ezelők (operátor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lkalmazói progra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zámítógéphard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zelői (operátori)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 ember – gép kapcso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adata, hogy az operációs rendszer ezen keresztül működtethető legyen, illetve a működéséről a felhasználó tájékoztatást kapj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ikus eszközei: képernyő, billentyűzet, egé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operációs rendszer célja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gy 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yers hardver fölé egy olyan szoftverréteget hozzon létre, ami a teljes rendszert kezeli, valamint a felhasználó számára egy olyan kapcsolódási felületet nyújtson, amelyet könnyebb megismerni és programoz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elhasználók jellemző csoportja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szerű felhasznál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z op. rsz.-rel nem kerülnek közvetlen kapcsolatba, csak a kezelői felületet lát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ámukra az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p. rsz. olyan gép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lyik egy felhasználó körnek ad adat- és programfájlok védett és rendezett tárolására, valamint alkalmazások futtatásá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Alkalmazásfejlesztő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merik a programok számára nyújtott operációs rendszerek szolgáltatásait, valamint azok belső működésé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ukra az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. rsz. olyan gép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lyik a programok számára meghívható eljárásokat biztosí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Rendszermenedzs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adata az operációs rendszer üzemelte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dszergene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minisztrációs felada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Hangolási felada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dszerfelügye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kezelői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öveg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arancsnyelv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nürendszerű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f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k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inkron és aszinkron működ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végrehajtás befejezését követően fogad el a rendszer újabb kezelői beavatkozást vagy parancs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zink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z előző parancs végrehajtása előtt újabb parancsot lehet kiad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kalmazási felüle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kész, előre programozott megoldásokat tartalmaz például a B/K műveletekre, az időkezelésre, a dinamikus tárigények kielégítésére, a programok együttműködésének és információcseréjének megoldásá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ndszerhívás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ozott megszak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tására az operációs rendszer átveszi az irányítás szerepé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rdverfelül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és a hardver kapcsolódási felülete több ponton valósul me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. rsz. maga is e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zeli a hardvereszközö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zeli a be- és kiviteli eszközö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operációs rendszerek osztály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09480"/>
            <a:ext cx="800100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z operációs rendszerek osztály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imes New Roman"/>
              </a:rPr>
              <a:t>Szempon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személyi számítógép, munkaállomás, minigép, mainframe gép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PC-k személyi számítógép op. rendszere: egyszerű, olcsó, egyfelhasználós, egytaszkos, adatvédelem szinte semmi (MS-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Mini gépes és munkaállomások: többtaszkos, esetenként többfelhasználós, otthon is használható, megfelelő adat -és programvédelemm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y számítógépes rendszer egymásra épülő rétege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5181480"/>
            <a:ext cx="3047760" cy="7621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495680"/>
            <a:ext cx="30477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ációs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886200"/>
            <a:ext cx="30477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ítók       Parancsé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886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352680"/>
            <a:ext cx="3047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ki rsz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gbízható hardvert és szoftvert kíván, folyamatvezérlésre is alkalmas, sokszor a feladatok is párhuzamosíthatók, többprocesszoros változatok is léteznek (UNIX, WinXX, NT, Netw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gyszámítógépek (mainframe 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ága, nagy teljesítmény, rendszerek integrálására szolgálnak, többfelhasználós (ezres nagyságrend), többtaszkos, nagyméretű adatfeldolgozás, folyamatirányítás, csak hálózatos implementációk, üzemeltetésük igen nagy szakértelmet és megfelelő környezetet kíván, kritikus  adat -és programvéd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80010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ok rendszerfunkció, sok-sok párhuzamosan működő processzor, real-time lehetőségek, több operációs rendszer párhuzamos futtatása (IBM mainframe OS: OS/VS1, OS/VS2, V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) egy vagy többfelhasználós OS (multius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egy vagy többtaszkos OS (multiprogramozo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) utasításpárhuzamosításra alkalmas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ultithre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) kötegelt (BATCH) vagy interaktí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) hálózatos és elosztott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800100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gyományos feloszt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felhasználós (kötegelt vagy interak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öbbfelhasználós (kötegelt vagy interak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noprogramozott vagy multiprogramozott, esetleg többszálú megvalósítást támog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üzemmód: kötegelt, időosztásos, valós idejű, esetleg vegyíti eze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vagy többprocesszo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osztott és hálózati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80010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lhasználás jellege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datfeldolgoz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ranzakció-orientá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lyamatvezérlő, folyamatirányít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űszaki problémamegoldó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emélyi felhasználásra készült rendszerek (G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ejlesztő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800100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Egyfelhasználó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kezdeti megoldás v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kötegelt eléréssel páro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emélyi számítógépeknél nem volt fontos a gép, a hardver kihasználtsága, így újra divatba jö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09480"/>
            <a:ext cx="800100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programozot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programvégrehajtás közben a CPU sokszor  várni kényszerül (pl. I/O műveletek, operátori közbeavatkozás, stb.), Ekkor át lehet kapcsolni a CPU-t más programra, amely persze a tárban van, vagy oda be lehet hoz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teraktív rendszerekben egyre nagyobb a jelentősége (pl. ablakok, virtuális terminálok, grafikus munkaállomások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annak egyfelhasználós multiprogramozott rendszerek. A multiuser rendszerek szükségszerűen multiprogramozot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09480"/>
            <a:ext cx="8001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taszking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gy adott felhasználó több programja fut látszólag egyidőben - fontos: az operációs rendszer ütemező algoritm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Multiprogramozást támogató eszközö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SPOOL - Simultan Peripherial Operating On-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nyomtatók kezelésére, levelezésre, egyéb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   lassú perifériák számára - első megvalósítása: HA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8001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wapping - program csereb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adott pillanatban az éppen futóprogram van a tárban,  a többi mágneslemezen várak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ere: ha a futó programot az operációs rendszer  felfüggeszti, akkor az kimegy lemezre, és a várakozók közül egy betöltőd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őny: maga a multiprogram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: lassúság a sok I/O művelet mi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többpartíciós multiprogramoz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móriát különálló - egymástól független - partíciókra osztják, mindegyikben egy program lehet, s ezek közül egy fut a többi várakozik; később összeházasították ezt a a swapping-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lapozás - szegmentált lap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árat és a programot is lapokra osztják (egy lap:0,5-4K) - minden program annyi lapot kap amennyi neki kell, esetleg kevesebbet, a pedig többit virtuális tárra tes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800100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multiprogramozás problémá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nem megosztható perifériák egyidejű kezelése (pl. printer, mágnesszalag, reusable rutinok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észben segít a SPOOLING technika, vagy a szemafor-technika (E.W. Dijkst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a válaszidők csökkentése a hatásfok csökkenése nélkü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őosztásos megoldások; interaktív programoknak nagyobb prioritást kell ad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rendszerprogramoknak két, alapvetően különböző csoportja v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perációs rendszer felügyelt (kernel) módban f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ndszerprogramok maradék része (fordítók, szerkesztők) felhasználói módban futn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09480"/>
            <a:ext cx="80010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hogyan védhetjük a programokat és az operációs rendszert egymástó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 CPU privilegizált üzemmódja (csak ekkor lehet programot tölteni és memóriát foglalni), tárvédelmi kulcsokkal vagy regiszterekk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hogyan osszuk szét az operatív tárat a betöltött programok közöt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artícionálás, swapping, lapozás, szegmentált lapozás (virtuális tárkezelé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8001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yan osszuk szét az erőforrásokat úgy, hogy ne alakuljon ki holtpo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eljes körű erőforrás-kiosztás adminisztrálás, szinkronizálás, megfelelő erőforrás-ütemező algoritmusok, holtpont megelőzés vagy felisme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09480"/>
            <a:ext cx="8001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öbbprocesszoro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yan rendszerek, melyben több processzor dolgozik, főleg RISC processzorokkal alkalmazzák ez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közös tárban több processzor dolg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ámítógép-hálóza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van egy kitüntetett processzor, amely vezérli a többi processzort, és elvégzi az alapfunkciókat (tárkezelés, I/O szervezés, taszk-ütemezés); adott esetben egy - a fő - processzort csak az operációs rendszer használja, a többi osztják szét a felhasználói  folyamatok közö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b)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ack-end processzor kapcsolat: egy főprocesszor bírja munkára a társprocesszort vagy processzorokat, ez alárendeltségi viszonyt mutat (pl. grafikus vagy matematikai társ-processzori megvalósítás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a sok processzor teljesen egyenrangú, és az operációs rendszer osztja szét közöttük a feladatokat a megfelelő ütemező algoritmus segítségével (maga az operációs rendszer is az épp szabad processzort használ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orosan és lazán csatolt rendszereket különböztetünk meg a többprocesszoros rendszerek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8001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ármelyik processzor indíthat I/O műveletet, amely megszakítást okoz azon a processzoron, amelyik fogadni tudja a megszakítást (ütemezés, szinkronizál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lehet tudni, hogy egy adott felhasználó programja melyik processzoron f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dőszelet végén a program az új aktivizálódáskor bármelyik processzoron futhat tovább, és folytathatja a munk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8001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processzorhiba esetén egyik program sem szakad meg, hanem a hibát okozó processzor leáll, és valamelyik másik átveszi a rajta futó program végrehajtását (mintha csak az időszelet járt volna 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jnos ezek a megoldások ma még túl drágák, jobbára a katonai rendszerekben, az űrkutatásban, s a folyamatvezérlésben használják (vegyi üzemek, atomreaktor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ár helyenként megfigyelhetők az közlekedéstechnikában is (autók, repüléstechnika, automata metró-irányít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alós idejű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ál körülmények között a programok nem valósidőben futnak a sok felfüggesztés, ütemezés miatt bekövetkezett időveszteségek mi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ari környezetbe beépített számítógépes rendszerekben ez megengedhetet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yamatvezérlést csak valós idejű rendszerekkel lehet megvalósít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09480"/>
            <a:ext cx="8001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seményvezérelt jelleg (event driven) csak távoli rokona a valós idejű (real-time) rendszerek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valós idő nem azonnalit jelent, hanem előírt időkorlátokat, amelyeket viszont nem szabad áthágni, mert az rendszerhibát, rendszerleállást eredményez - jó esetben (vagy Csernob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seményvezérelt rendszerek az emberi reakcióidőhöz vannak optimalizálva (0.1-1.0 sec, bár belső a hardverhez igazodó események lehetnek gyorsabbak is), ez elektronikusan mérve igen las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09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yors folyamatoknál (pl. atomreaktor, vegyi kombinát, olajfinomítók) igen alacsony reakció idők vannak: kb. 1-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yenkor a kérelmek is megfelelően érzékeny mérő műszerekről érkeznek a számítógépes rendszer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gész rendszer csúcsterhelésre kell méretezni, s arra kell optimalizálni, csúcsterhelésen kell tesztel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fejlesztésre ezek a rendszerek alkalmatlan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ós idejű rendszereket más operációs rendszer alatt fejlesztik ki, ahol szimulálják a vezérelt folyamatokat, majd kipróbálják a célhardveren is csúcs üzemmód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jlesztési és tesztelési idő nagyságrendekkel nagyobb, mint a beüzemelési szakas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setek nagy részében az operátorok a valós idejű rendszereket csak elindítani és leállítani tudják, tehát az emberi beavatkozás minimá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 az operációs rendsz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ülről lefelé” néző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 feladata, hogy a rendszer felhasználóinak egy kényelmes csatlakozást biztosít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09480"/>
            <a:ext cx="8001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ibás működés esetén kell beavatkozni, illetve állásidőben lehetőség van bizonyos átkonfigurálások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nél a programoknál fontos, hogy megváltoztathatatlanok legyenek - ezért a programokat ROM-ba égetve használják, így nem lehet elrontani őket, nem sérül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09480"/>
            <a:ext cx="8001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eményvezére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főképpen a mai, modern interaktív, grafikus és menüvezérelt rendszerekben használj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álaszidők bizonyos esetekben az emberi reakció időkhöz és más esetekben a hardver sebességéhez vannak optimalizálva (bár vannak anomáliák, s emiatt inkompatibilitási problémák is adódna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zakció-orientált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onlóak a valós idejű rendszerekhez és az eseményvezérelt rendszerekhez, de itt az esemény maga a kívülről jövő (felhasználó felöl jövő) tranzakció - belülről ilyet nem generál a 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t emberi reakció időkkel kell számolni, bár sok esetben itt is használnak másodpercekben mért válaszidő-korlá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idejűleg sok ügyfél kiszolgálása sem okozhat gondot (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ötegelt rendszerek (BA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öbb összetartozó programot egy egységbe szerveznek -  ez a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JOB-okat egymás után adják fel a rendszerbe feldolgozásra, az főütemező kiválasztja a futásra alkalmas JOB-ot, és időben egymást követően végrehajtja a benne szereplő program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öbb JOB több programja is futhat konkurens módon - ennek ütemezése már az operációs rendszer diszpécserének fela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programozó, a felhasználó ilyenkor nincs kapcsolatban a programjával - a mai rendszerekben ezt a „háttérben való futtatás” valósítja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operátor adott esetben leállíthatja, ideiglenesen felfüggesztheti a futó JOB-ot független attól, hogy az hol tart (nehézkes visszaállítási lehetőség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émely esetben a JOB-ok üzennek a terminálra, attól függően, hogy hol tartanak, mit csinál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utásuk szempontjából kritikus az erőforrás-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80010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án a legjobb hardver és gépidő kihasználtságot biztosítják, de a JOB-ok fordulásának ideje - a benne szereplő programok betöltése, futása, leállása - igen nagy lehet, ezért interaktivitásra alkalmat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aktív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olyan operátori interface-t biztosít, amely által állandó kapcsolatban van a felhasználó a gép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 lehet karakter-orientált vagy grafik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őosztásos rendszere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talában interaktív üzemmód, a CPU idő osztják a felhasználó, esetleg a processzek között szét (processzek sohasem kapnak fix időszeletet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dő körben jár, s mindenki ugyanannyi időre kapja meg a CPU-t - minden felhasználó az adott időszeletnyit dolgo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kszor kombinálják BATCH (háttér) futtatással is - 1988-tól szinte már csak ez léte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8001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Többfelhasználó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 gyakorlatilag a számítógép-hálózatok: az operációs rendszer legfontosabb feladata a hálózat életben tartása, azért hogy a felhasználók folyamatosan tudjanak kommunikál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ámítógép-hálózatok fajtá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egy központi gép van összekötve „buta” terminálokkal (terminál=DTE, Data Termination Equip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gy központi gép több „intelligens” terminállal, azaz munkaállomással van összeköt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öbb önálló „teljes értékű” gép van összekötve - bármelyik lehet szerver, ha a szükség úgy hoz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Összekötés: vonalakkal, amely lehet közvetlen adatbusz, kábel, telefon-vonal, mikrohullám, infra, műholdas és egyéb rádiókapcso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álózat célja: a központi hardver és szoftver erőforrás-kezelés, gyors adatátvitel és kommunikáció, szükség esetén a feladatok megosz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elosztott rendszerek: ezek is számítógép-hálózatok, de míg az „egyszerű hálózatoknál” pontosan tudjuk, hogy hol hajtódik végre az elindított folyamat, addig az elosztott rendszerekben nem - ahol van szabad erőforrás oda teszi át a folyamatot (járulékaival együtt) az elosztott rendszert működtető operációs rends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lózati topológiá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eljes vagy részlegesen 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sillag, sín vagy busz,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 az operációs rendsz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lról felfelé” néző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a feladata, hogy a különböző programok számára szabályos és felügyelt módon biztosítsa a processzorhoz, a memóriához és a B/K eszközökhöz való hozzáféré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62064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felnyitott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többszörös gyűr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fastruktúrás top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iépítés mérete szerint a számítógép-hálózat leh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Local Area Network (Netware, UNIX, 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Metropolitan Area Network (~OTP AT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AN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Wide Area Network (Internet</a:t>
            </a: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09480"/>
            <a:ext cx="80010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koll, azaz adatkapcsolat, adatátvitel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onal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üzenet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somagkapcs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álózatok kialakítását befolyásoló tényező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iztonság, védelem, létesítési költségek, kommunikációs költségek, hardver -és szoftverintegri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z operációs rendszer alapvető funkció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80010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z operációs rendszer alapvető funkció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) rendszeradminisztráció: minden ami a gép, a hardver és a futó folyamatok vezérlése megkíván, szükségessé tesz a normális működés érdeké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) programfejlesztési támogatás: amit a szoftverfejlesztés megkíván az adott operációs rendszer keretei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) alkalmazói támogatás: alkalmazói programok indításához, kezeléséhez, használatához nyújtott op. rendszerbeli segít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09480"/>
            <a:ext cx="80010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ndszeradminisztr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rocesszor ütem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alós és virtuális tár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egszakítás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lyamatvezér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zinkron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iba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rőforrás-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datállomány (file és katalógus) 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erifériakez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plózás, számlá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perátori tevékenységek támoga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09480"/>
            <a:ext cx="8001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rogramfejlesztési támogatá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övegszerkesztő (programers editor) biztosítása a forrásprogramok, scriptek elkészít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esetleg fordítók (compilerek), értelmezők (interpreterek), linkage editorok (linkerek), egyéb CASE eszközök biztosítása (ma már ez nem divat), ritkán bináris LIB-ek mellék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z operációs rendszer rutinjainak elérése, meghívása valamely megszakításon keresztül (TRAP, SVC, I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09480"/>
            <a:ext cx="80010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fordító (compil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 forráskód szintaktikai és szemantikai ellenőrz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kódgenerálás, kódoptimalizálá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őnyei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áris kódtárolást valósít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ód gyors futású, újrahasznosít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áris könyvtárazási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nnyű modularizálási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09480"/>
            <a:ext cx="8001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rányai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hézkes hibakeresés, jav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sok esetben hordoz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kompatibilitási problém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ordító inputj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vagy több forrásállomá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ja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tárgykódú (OBJ)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linker (linkage editor - programszerkesz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ordítás után létrejött tárgykód még nem betölthető és futtatható, ezért van szükség a linker-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linker inputja és output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putja: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gy vagy több tárgykódú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ináris könyvtár(ak) - LIB-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mindenkori operációs rendszer számá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uttatható program, lehet több fajta</a:t>
            </a:r>
            <a:r>
              <a:rPr b="0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09480"/>
            <a:ext cx="8001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értelmező (interpre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net közben utasításonként vagy soronként értelmezi a forráskódot. Értelmezés: szintaktikai ellenőrzés, gépi kódúvá alakítás, azonnali végrehaj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lőnyei: gyors, azonnali hibakezelés, hibakeresés és javítás, egyszerű tárolás, könnyű módosíthatóság, hordozhatós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Hátrányai: nincs bináris tárolás (talán a p-code?), lassú, helyenként körülményes (lásd ciklusok), interpreter szükséges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operációs rendszerek történe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s Babbage (1792-187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incs operációs rendszer raj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a Lovelace, a világ első programozó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8001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betöltő (loa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gszerkesztett programot betölti az operatív tárba, ha szükséges relokálja, bejegyzi az operációs rendszer processz-táblájába (PCB vagy TCB), előkészíti az állapotvektort, de sohasem fut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nnak rendszerek ahol külön neve van a programnak, és külön kell aktiválni (meghívni), interaktív rendszerekben ez sokkal egyszerűbb d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8001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operációs rendszer rutinjainak hív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hardver eszköz állapotváltozása generálhatja (külső interrupt hívá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 védelmi rendszer aktiválhatja (pl. nullával osztun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oftverből generált megszakítás segítségével (pl. SVC, INT, DOSCALL utasítások vagy magasszintű nyelvekből megfelelő függvényekkel: Intr, MsDos, Int86, Intdos, st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8001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rutinjainak egy része rezidens vagy rezidensé tehető, a többi tranziens ru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zidens rutinok csak egy példányban vannak az operatív tárban, de mindig ott van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operációs rendszer rutinjainak megvalósítá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ENT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US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FRESH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0948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REENTERABLE (újra beléptethe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inok azok, melyek bármikor újra aktivizálhatók akár a befejeződésük előtt is (megszakítás útján, vagy multiprocesszoros környezetben normál mód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módosíthatja önmag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tartalmazhat módosítható ada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m-konstans adatokat csak regiszter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zéssel érheti 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8001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REUSABLE (újra felhasználhat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ek a rutinok azok, melyeket egy időben csak egy folyamat használhat, de a használat után újratöltés nélkül megkaphatja egy másik folyamat (process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 megváltoztatja magát vagy a benne lev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okat, akkor kilépés előtt vissza kell min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llíta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g programhiba esetén sem fejeződhet be úgy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gy a kiindulási állapot ne állna v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800100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) REFRESHABLE (frissíthet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ásuk felfüggeszthető, a tárból kiírás nélkül kitörölhető, mert bármikor háttértárról újra betöl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znosak lehetn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árhiba esetén, virtuális tárkezelés eset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árhiány  esetén,  ha sürgősebb feladatot kell végrehajtani, s annak kell a hely, akkor őket fel lehet függeszteni, és helyük ideiglenesen felszabadít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09480"/>
            <a:ext cx="80010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programtesztelés támoga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rásprogram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yomkövető utasítások a programo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eépített belső debug lehető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dítás, Interpretálás, Linkelés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ordítást, értelmezést vezérlő utasí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inker vezérlő utasí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80010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Operációs rendszer szintjé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tárkivonat (core dump, főleg hexáb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ív debug program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megszakítás: trace on/off, ste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zimbolikus du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csak a változók nevét és tartalmá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ív nyomkövető programok (AFD, TD, CodeView és egyéb rendszerutility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yomkövetés hardver támogatáss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peciális esetekben (pl. túlcsordulás, nullával osztás, privilegizált utasításhívás, stb.) a hardver megszakítja a programot és elérhetővé teszi a programállapot kiértékelésé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izonyos processzoroknak van „TEST” üzemmód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09480"/>
            <a:ext cx="80010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kalmazói támoga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perátori parancsnyelvek az üzemeltetési funkciókho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unkavezérlő nyelvek (JOB control langu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egédprogramok, amelyekkel rendszerszolgáltatások elérhetőek (util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első generáció (1945-55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ákuumcsöv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mann János (Princet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ard Aiken (Harva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pert Eckert (Pennsylv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rad Zuse (Németorszá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5000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0948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speciális programcsomagok egyedi felhasználási területekhez (grafikus interface-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interaktivitás megvalósítás OS szi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lkalmazói rendszerszolgáltat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 alkalmazói programkészlet (file-kezelő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22:20:39Z</dcterms:created>
  <dc:creator/>
  <dc:description/>
  <dc:language>en-US</dc:language>
  <cp:lastModifiedBy>Nagymáté Péter</cp:lastModifiedBy>
  <dcterms:modified xsi:type="dcterms:W3CDTF">2004-05-27T09:40:58Z</dcterms:modified>
  <cp:revision>9</cp:revision>
  <dc:subject/>
  <dc:title>Operációs rendszerek</dc:title>
</cp:coreProperties>
</file>